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ECA3-E9C0-4E45-96B7-C730D1A09F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79BF-D1FB-4120-ADC5-E8C453BC9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36F2-C6FD-40B3-A792-EACDECD52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464-A54D-47BE-B03A-DC7A3C948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9C1B-22F1-4DDD-A442-11A1FB206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DE36-BC48-416B-BF8A-2895A6D88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3445-149F-4D73-BA86-2F6739F61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CAA2-50CC-4FD4-90E7-0FD95E691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29FF-305C-4E01-B6F7-43565D2DE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27D6-BCFC-40D4-B848-3647064DF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4AB5-5DC0-4B5B-AD51-6441DB44B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DCBA-A698-4F43-A2EF-054C20098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56C8-0F6F-4BFE-B255-F0A3F57A5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7753-5C2D-46FC-A2D8-0C6B0BD55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732A-BAD6-47D5-8402-82D619575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C453-565C-473D-A41C-FA90CA825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C869-F6E4-49EF-B6F4-60FBAD4C3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FFE-E10D-4728-A2AA-A179D7776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7351-D675-4975-8926-DE3B19F01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3F6-637C-48B2-A6F5-1E9377CC1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5567-3B30-4C5D-B431-8D0633EAE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04A9-E680-4674-B578-E239A9342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A380-5086-4864-AB98-F46A29442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EC69-202C-40B7-A593-23BB47CE6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9475-60B3-40F1-99C6-92D8F8C78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4AB9-203B-4BC3-8F68-45F8E6AF3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C7F7-5FB4-4261-A5D1-B652A3279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B0A5-0502-472C-BBC5-65F5C3B9B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8B99-DE11-4E58-80DF-F85E3746D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CC58-4086-41F7-BBC2-66E0F3EC4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ECF4-AE19-42B0-A979-C95E758D6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E3CC-BF43-496B-88E9-A1323F69D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6674-9D6C-4930-B653-58207EB4B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EBF2-F2F6-4D9A-A321-EACAC8CFB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FBA3-53E0-4C20-9CA8-EA999991D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4D8C-75ED-4713-B711-49FCD0D78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E060-1CE1-4B39-9F13-2C7A73017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4293-BC05-4FF0-9B76-B92CC7199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463E-D96B-4AB2-982F-84DB677C0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35B4-9291-4941-9D22-A3D235681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BD0C-9AD2-4D55-A74E-8F62BFAD8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865-A14C-41DC-8FA2-D6BBCAAE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5F2-717C-46F1-960A-E39A356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C5C-AF13-49EA-9EEE-41C74F4F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517-73A4-43D5-97FF-7FEB132B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413-A193-4937-A0AA-55A3EA61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2EB-BBBD-4D9A-93FE-FD95409A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7B2-6203-4F01-9B1F-C3D52FC6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68D-DC6A-46E2-9569-9B8ECFE0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8B9-5341-4CF9-89F1-9C62BE12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1DE-F2F5-4950-9866-A6F089B1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F9A-B180-416A-AD40-AB461777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F97-522F-46BD-8179-3FF176FB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791B-85EA-404B-8CBB-57E77F1B5C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49B3-81D4-4422-8EED-C17B4E9D8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_-RytPXcs0&amp;feature=relate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80880"/>
            <a:ext cx="9144000" cy="190512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5715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elcome to…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21262800">
            <a:off x="29880" y="549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ncient Indus River E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981080"/>
            <a:ext cx="9144000" cy="304920"/>
          </a:xfrm>
          <a:prstGeom prst="rect">
            <a:avLst/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oprah-winfrey-sho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0880" y="2438280"/>
            <a:ext cx="7994520" cy="259092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7"/>
          <p:cNvSpPr/>
          <p:nvPr/>
        </p:nvSpPr>
        <p:spPr>
          <a:xfrm flipV="1">
            <a:off x="533520" y="5867280"/>
            <a:ext cx="5410080" cy="53352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Near the Ind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Flo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Destroyed Fie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Need to Control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Dirt/Earth Wal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Ca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Irrig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North – Dry Pla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Domesticated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Cat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Water Buffa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What Kind of Crops did you grow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Whe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Cott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Lumb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Livestoc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Ri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Banan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Mustar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Bea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How did you transport the goods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Animal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+ C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Boats Alo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the Ri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What was education lik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2,500 bc – nothing know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300 bc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Wrote o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Tree B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Palm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Where did School Take Plac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Temp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Commun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Cent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Ancient India Map.jpg"/>
          <p:cNvPicPr/>
          <p:nvPr/>
        </p:nvPicPr>
        <p:blipFill>
          <a:blip r:embed="rId1"/>
          <a:srcRect l="-54497" t="0" r="-54497" b="0"/>
          <a:stretch/>
        </p:blipFill>
        <p:spPr>
          <a:xfrm>
            <a:off x="-1781280" y="130320"/>
            <a:ext cx="1223352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Calibri"/>
              </a:rPr>
              <a:t>Can you tell us about the Major Relgions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Hinduis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Buddhis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Calibri"/>
              </a:rPr>
              <a:t>Can you tell us some more about Hinduism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Diver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Common belief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Body different from so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Reincarn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Moving up in society from creatures on earth to different planet’s inhabit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Calibri"/>
              </a:rPr>
              <a:t>Can you tell us more about Buddhism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2,500 years ag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Can b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Religious Ritu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Worship of De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or just Pure Medi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Suffering ends if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You understand the nature of the 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What can you tell us about Ancient Indian Art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380880"/>
            <a:ext cx="4114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75,000 years a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2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Calibri"/>
              </a:rPr>
              <a:t>Carvings on Cave Wall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2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Calibri"/>
              </a:rPr>
              <a:t>Prehistoric ag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images.jpeg"/>
          <p:cNvPicPr/>
          <p:nvPr/>
        </p:nvPicPr>
        <p:blipFill>
          <a:blip r:embed="rId1"/>
          <a:stretch/>
        </p:blipFill>
        <p:spPr>
          <a:xfrm>
            <a:off x="6172200" y="152280"/>
            <a:ext cx="2657520" cy="331812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3" descr="images-1.jpeg"/>
          <p:cNvPicPr/>
          <p:nvPr/>
        </p:nvPicPr>
        <p:blipFill>
          <a:blip r:embed="rId2"/>
          <a:srcRect l="-30313" t="0" r="-30313" b="0"/>
          <a:stretch/>
        </p:blipFill>
        <p:spPr>
          <a:xfrm>
            <a:off x="4038480" y="3605040"/>
            <a:ext cx="41468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6840" y="304920"/>
            <a:ext cx="3352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2,500 years ag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etailed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rucial Rol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images-2.jpeg"/>
          <p:cNvPicPr/>
          <p:nvPr/>
        </p:nvPicPr>
        <p:blipFill>
          <a:blip r:embed="rId1"/>
          <a:stretch/>
        </p:blipFill>
        <p:spPr>
          <a:xfrm>
            <a:off x="3809880" y="1523880"/>
            <a:ext cx="49118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Yo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yoga.jpg"/>
          <p:cNvPicPr/>
          <p:nvPr/>
        </p:nvPicPr>
        <p:blipFill>
          <a:blip r:embed="rId1"/>
          <a:stretch/>
        </p:blipFill>
        <p:spPr>
          <a:xfrm>
            <a:off x="4038480" y="228600"/>
            <a:ext cx="476280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imeline - An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00 – 1500 bc – Harrappan Civ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00 – 1000 bc – Rule of Aryan Inv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- 500 bc – Epic age in In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63 – 483 bc – Life of Budd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They Drew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Lea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Mount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Indian art.jpg"/>
          <p:cNvPicPr/>
          <p:nvPr/>
        </p:nvPicPr>
        <p:blipFill>
          <a:blip r:embed="rId1"/>
          <a:stretch/>
        </p:blipFill>
        <p:spPr>
          <a:xfrm>
            <a:off x="4419720" y="2133720"/>
            <a:ext cx="447012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84807"/>
                </a:solidFill>
                <a:latin typeface="Calibri"/>
              </a:rPr>
              <a:t>What was there in terms of Government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84807"/>
                </a:solidFill>
                <a:uFillTx/>
                <a:latin typeface="Calibri"/>
              </a:rPr>
              <a:t>Gener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Well Planned-ou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Complex City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Law + Punishment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Police Offic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84807"/>
                </a:solidFill>
                <a:uFillTx/>
                <a:latin typeface="Calibri"/>
              </a:rPr>
              <a:t>Post-Join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Emperor had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Different governo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Like a small count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84807"/>
                </a:solidFill>
                <a:latin typeface="Calibri"/>
              </a:rPr>
              <a:t>What were the Laws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Ancient Religious Tex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Kings Administered Law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Village Laws Administered by Members of Tow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What was the Culture Lik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Very Uni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ocial homes weren’t gr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duced Non-Essential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ay and Wooden To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Few Weapons – Conflict was lim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rts - very importa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Practices + Beliefs are still the same now </a:t>
            </a:r>
            <a:r>
              <a:rPr b="0" lang="en-US" sz="4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h</a:t>
            </a:r>
            <a:r>
              <a:rPr b="0" lang="en-US" sz="8800" spc="-1" strike="noStrike" u="sng">
                <a:solidFill>
                  <a:srgbClr val="00b050"/>
                </a:solidFill>
                <a:uFillTx/>
                <a:latin typeface="Calibri"/>
              </a:rPr>
              <a:t>a</a:t>
            </a:r>
            <a:r>
              <a:rPr b="0" lang="en-US" sz="8800" spc="-1" strike="noStrike" u="sng">
                <a:solidFill>
                  <a:srgbClr val="00b0f0"/>
                </a:solidFill>
                <a:uFillTx/>
                <a:latin typeface="Calibri"/>
              </a:rPr>
              <a:t>n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k 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y</a:t>
            </a:r>
            <a:r>
              <a:rPr b="0" lang="en-US" sz="8800" spc="-1" strike="noStrike" u="sng">
                <a:solidFill>
                  <a:srgbClr val="00b050"/>
                </a:solidFill>
                <a:uFillTx/>
                <a:latin typeface="Calibri"/>
              </a:rPr>
              <a:t>ou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 f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o</a:t>
            </a:r>
            <a:r>
              <a:rPr b="0" lang="en-US" sz="8800" spc="-1" strike="noStrike" u="sng">
                <a:solidFill>
                  <a:srgbClr val="00b050"/>
                </a:solidFill>
                <a:uFillTx/>
                <a:latin typeface="Calibri"/>
              </a:rPr>
              <a:t>r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en-US" sz="8800" spc="-1" strike="noStrike" u="sng">
                <a:solidFill>
                  <a:srgbClr val="00b0f0"/>
                </a:solidFill>
                <a:uFillTx/>
                <a:latin typeface="Calibri"/>
              </a:rPr>
              <a:t>w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t</a:t>
            </a:r>
            <a:r>
              <a:rPr b="0" lang="en-US" sz="8800" spc="-1" strike="noStrike" u="sng">
                <a:solidFill>
                  <a:srgbClr val="00b050"/>
                </a:solidFill>
                <a:uFillTx/>
                <a:latin typeface="Calibri"/>
              </a:rPr>
              <a:t>c</a:t>
            </a:r>
            <a:r>
              <a:rPr b="0" lang="en-US" sz="8800" spc="-1" strike="noStrike" u="sng">
                <a:solidFill>
                  <a:srgbClr val="00b0f0"/>
                </a:solidFill>
                <a:uFillTx/>
                <a:latin typeface="Calibri"/>
              </a:rPr>
              <a:t>h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i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n</a:t>
            </a:r>
            <a:r>
              <a:rPr b="0" lang="en-US" sz="8800" spc="-1" strike="noStrike" u="sng">
                <a:solidFill>
                  <a:srgbClr val="00b050"/>
                </a:solidFill>
                <a:uFillTx/>
                <a:latin typeface="Calibri"/>
              </a:rPr>
              <a:t>g</a:t>
            </a:r>
            <a:r>
              <a:rPr b="0" lang="en-US" sz="8800" spc="-1" strike="noStrike" u="sng">
                <a:solidFill>
                  <a:srgbClr val="00b0f0"/>
                </a:solidFill>
                <a:uFillTx/>
                <a:latin typeface="Calibri"/>
              </a:rPr>
              <a:t>.</a:t>
            </a:r>
            <a:r>
              <a:rPr b="0" lang="en-US" sz="8800" spc="-1" strike="noStrike" u="sng">
                <a:solidFill>
                  <a:srgbClr val="ff0000"/>
                </a:solidFill>
                <a:uFillTx/>
                <a:latin typeface="Calibri"/>
              </a:rPr>
              <a:t>.</a:t>
            </a:r>
            <a:r>
              <a:rPr b="0" lang="en-US" sz="8800" spc="-1" strike="noStrike" u="sng">
                <a:solidFill>
                  <a:srgbClr val="ffc000"/>
                </a:solidFill>
                <a:uFillTx/>
                <a:latin typeface="Calibri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oprah-winfrey-show.jpg"/>
          <p:cNvPicPr/>
          <p:nvPr/>
        </p:nvPicPr>
        <p:blipFill>
          <a:blip r:embed="rId1"/>
          <a:stretch/>
        </p:blipFill>
        <p:spPr>
          <a:xfrm>
            <a:off x="2198520" y="3581280"/>
            <a:ext cx="6583680" cy="2133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 rot="21194400">
            <a:off x="705960" y="5907240"/>
            <a:ext cx="52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4807"/>
                </a:solidFill>
                <a:latin typeface="Calibri"/>
              </a:rPr>
              <a:t>Ancient Indus River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6"/>
          <p:cNvSpPr/>
          <p:nvPr/>
        </p:nvSpPr>
        <p:spPr>
          <a:xfrm flipV="1">
            <a:off x="838080" y="6095880"/>
            <a:ext cx="4953240" cy="609840"/>
          </a:xfrm>
          <a:prstGeom prst="line">
            <a:avLst/>
          </a:prstGeom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84807"/>
                </a:solidFill>
                <a:uFillTx/>
                <a:latin typeface="Calibri"/>
              </a:rPr>
              <a:t>Our Gues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rt Specialist – Nick 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Education and Military Expert – Will Z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Religion Expert – Tyler 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Trade Expert – Jessica 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84807"/>
                </a:solidFill>
                <a:latin typeface="Calibri"/>
              </a:rPr>
              <a:t>Why did you all move down to the Indus River in the first Plac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2,500 b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No one’s s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Indus Flood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Fertile Soi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84807"/>
                </a:solidFill>
                <a:latin typeface="Calibri"/>
              </a:rPr>
              <a:t>What did you do when you got ther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alibri"/>
              </a:rPr>
              <a:t>Farm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alibri"/>
              </a:rPr>
              <a:t>Metal Too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Potte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et up Temp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How did you go about farming???</a:t>
            </a:r>
            <a:br>
              <a:rPr sz="7200"/>
            </a:b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What about trade??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5:50:18Z</dcterms:created>
  <dc:creator>Jessica Cooper</dc:creator>
  <dc:description/>
  <dc:language>en-US</dc:language>
  <cp:lastModifiedBy>IT User</cp:lastModifiedBy>
  <dcterms:modified xsi:type="dcterms:W3CDTF">2010-10-06T11:10:35Z</dcterms:modified>
  <cp:revision>40</cp:revision>
  <dc:subject/>
  <dc:title>Slide 1</dc:title>
</cp:coreProperties>
</file>